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49C-70A8-4360-99E0-AAB1903B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1A2-202E-4C75-9A55-69944110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AA6-2120-4714-97DE-DB3BA96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38B-C277-4EA1-8DBB-237EE7F8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CB4-A151-4CE3-85F5-D4BE180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C90-5E07-42BC-9478-C8E9AE9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F83-3A49-41EB-ACB1-AC76FC4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07B-76D7-4779-A8B1-48943CD3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D96-581E-49A6-94A9-9DC0E5B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798-7CD6-4C1A-B257-A634E23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044-6720-4233-B614-06CDFFA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49A-77BF-4509-9816-3E018AF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F2D-E0D8-4690-BE48-1A922D89A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avant-garde.com/ex/koons.shtml" TargetMode="External"/><Relationship Id="rId2" Type="http://schemas.openxmlformats.org/officeDocument/2006/relationships/hyperlink" Target="http://www.cavant-garde.com/ex/koons.shtml" TargetMode="External"/><Relationship Id="rId3" Type="http://schemas.openxmlformats.org/officeDocument/2006/relationships/hyperlink" Target="http://www.cavant-garde.com/ex/koons.shtml" TargetMode="External"/><Relationship Id="rId4" Type="http://schemas.openxmlformats.org/officeDocument/2006/relationships/hyperlink" Target="http://www.cavant-garde.com/ex/koons.shtml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Sculp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High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81320" y="2084400"/>
            <a:ext cx="2781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trapp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38320" y="1719360"/>
            <a:ext cx="2676600" cy="42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38840" y="1600200"/>
            <a:ext cx="165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ontrappos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5040" y="1600200"/>
            <a:ext cx="193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ublic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6120" y="2185920"/>
            <a:ext cx="5171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ublic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0" y="2276640"/>
            <a:ext cx="33336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arth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087640"/>
            <a:ext cx="3619800" cy="258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9876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Louise Bourgeois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Maman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, 1999, Insta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43200" y="1614600"/>
            <a:ext cx="54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Modeling</a:t>
            </a: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2440" y="1600200"/>
            <a:ext cx="321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Colossal Head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Olmec, Ancient Art, 1500-300B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6305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1"/>
              </a:rPr>
              <a:t>Koon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2"/>
              </a:rPr>
              <a:t>,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3"/>
              </a:rPr>
              <a:t>Puppy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alifornian FB"/>
                <a:hlinkClick r:id="rId4"/>
              </a:rPr>
              <a:t>, Installation,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421000" y="1600200"/>
            <a:ext cx="390348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Various Sculp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536920" cy="304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38640" y="1600200"/>
            <a:ext cx="305748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79880" y="3938760"/>
            <a:ext cx="3375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43160" y="2133720"/>
            <a:ext cx="2857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ar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384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ssemb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52360" y="2260440"/>
            <a:ext cx="2648160" cy="320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57640" y="171936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Lost Wax Techniqu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Circe perd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40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Secon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798560"/>
            <a:ext cx="685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Low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2096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21:29:25Z</dcterms:created>
  <dc:creator>Sheila Levi-Aland</dc:creator>
  <dc:description/>
  <dc:language>en-US</dc:language>
  <cp:lastModifiedBy>Sheila</cp:lastModifiedBy>
  <dcterms:modified xsi:type="dcterms:W3CDTF">2005-05-25T19:10:43Z</dcterms:modified>
  <cp:revision>23</cp:revision>
  <dc:subject/>
  <dc:title>Slide 1</dc:title>
</cp:coreProperties>
</file>